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2EB4-9183-4E73-B580-A47CD17118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4B88-6D06-404C-8CAC-6F3FA3BD100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15E1-25EC-44D5-B5B1-AEE14373F1A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204-D603-4D14-A5B1-B304E07E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ACA-0456-4E24-BB52-6E6C0B53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33C-AD5E-4417-8877-A9DD2C22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20A-6DA7-494E-AE5A-03FEDE5C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84B4-50BF-4002-9498-A476F0C2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B11A-5F8A-4FBD-93CD-51A8CE35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65F5-7488-4F28-889E-E3C02F9D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258D-C311-4907-A4C3-1A8AF4CA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8E42-97BA-4DFD-9274-EB8E3ABE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CCB3-EB5A-420E-AA12-E7493657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E492-A72B-4FF7-80AC-9BEBC552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5E3-7DA7-494F-99A6-0D6F1494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7E6B-E3AA-477C-9D4D-9A4C5056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09FA-A11D-40A5-8D0C-9B87EE78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B374-7CFA-4C1F-BD47-0B07E4B7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F004-C5AE-41A8-AA99-621F0DAC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3CFC-AA47-4DD1-891A-9D94AF7D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147-F420-407C-95BB-6F66BB98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CC1-2004-4F08-B0BF-830C5C84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AB2-7ABE-4FFA-BE4C-5B9EF815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69E-26AE-40B7-ADF5-1FAA8DA2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D41-7EF2-4526-808E-04B681C6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73B-1AC5-45FF-9045-2AE6B8C6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5C0-70EE-4D32-B373-0A68E190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CEB9-B043-4377-915B-A18FC745CD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7015-7669-45E8-87EB-5BF49EFBBF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Разработка рабочих программ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учебных предметов и курсов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соответствии с требованиями ФГОС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Нормативные документы, лежащие в основе рабочих программ</a:t>
            </a: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ГОС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ОП образовательного учреждения, в том числе учебный план основного общего образования, программа развития универсальных учебных действ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едеральный перечень учебн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следующие материа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Документы, лежащие в основе</a:t>
            </a:r>
            <a:br>
              <a:rPr sz="40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 рабочи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кольку рабочие программы учебных предметов курсов являются компонентом основной общеобразовательной программы ступени, их разработка и утверждение относится к компетенции образовательного учреждения (п. 5 ст. 12 Федерального закона № 273 от 29.12.2012 «Об образовании в Российской Федерации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овательно, регламентировать структуру и содержание рабочей программы в образовательном учреждении может локальный акт, например, «Положение о рабочей программе учебного предмета, курса». Данный локальный акт определяет правила, нормы, объективно отражающие требования к рабочим программ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предмет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тульный лис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ая запис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ий поурочный пла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е образовательные результаты на конец обучения в данном класс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собы оценивания образовательных результатов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итульный лист отражает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е наименование образовательного учреждения в соответствии с Устав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у утверждения рабочей программы в соответствии с Положением о рабочей програм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сс, для которого разработа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реализации рабочей программ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.И.О. учителя, составившего рабочую програм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год составления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928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Пояснительная записка рабочей    программы должна отражать сведени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еречне нормативных документов и материалов, на основе которых составле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бщем количестве часов на учебный год, в неделю, на которые рассчитано преподавание предмета в данном клас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целях и задачах преподавания предмета в данном классе. Определяются на основе примерной или  авторской программы для данного класса с учетом специфики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ведущих формах, методах и средствах обучения, технологиях и т.д., которые будут использоваться учителем для реализации рабочей программы. При переходе на новый стандарт актуальными с точки зрения достижения новых образовательных результатов становятся способы обучения, реализующие системно-деятельностный подхо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тличительных особенностях рабочей программы по сравнению с авторской 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чинах внесения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Причины для внесения изменений в авторскую программу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чин для внесения изменений в авторскую программу могут выступа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практической части авторской программы лабораторным оборудованием, другими средств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авторской программой в полной мере содержания образования по предмету в соответствии с требованиями ФГО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ематический поурочны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с учетом учебного плана образовательного учреждения для данной ступени образования. Он раскрывает последовательность изучения содержания программы, распределение количества учебных часов по разделам и темам, конкретизирует все дидактические единицы содержания в рамках каждого урока, определяет проведение контрольных, лабораторных, практических и других видов работ, планируемые результаты изучения разде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на учебный год и оформляется в виде таблицы и является обязательной частью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ланируемые образовательные результаты обучающихся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т обязательный структурный компонент рабочей программы отражает перечень требований к личностным, метапредметным, предметным результатам, на достижение которых она направле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бразовательным результатам обучающихся, прописанные в рабочей программе не должны быть ниже, сформулированных в стандар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писанию планируемых образовательных результатов: они должны быть реально опознаваемы с помощью диагностических инстр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Способы оценивания планируемых образовательных результатов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й структурный компонент рабочей программы требует фиксирования сведений о количестве контрольных мероприятий, форме промежуточной аттес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х, методах, средствах контроля и оценки планируемых образовательных результатов обучающихся при реализации данной рабочей программы, которые планирует реализовать учи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000" y="47592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ложения к рабочей программе педагогом могут представляться также и средства контроля и оценки образовательных результа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ение о необходимости предоставления учителем средств контроля может быть принято педагогическим советом образовательного учреждения и зафиксировано в «Положении о рабочей программ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Рабочая программа учебного предмета или кур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казывает как с учетом конкретных условий, образовательных потребностей, возрастных и других особенностей обучающихся конкретного класса учитель планирует осуществлять образовательный процесс по предмету на основе ФГОС. По сути, рабочая программа – это индивидуальная педагогическая модель реализации образовательного процесса обучения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Учебно-методическое обеспечение образовательного процес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основную и дополнительную учебную литературу для обучающих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ики, учебные пособия, рабочие тетради, сборники задач и упражнений, тестов, контрольных и практических работ, практикумов, хрестомат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равочные пособия (словари, справочники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глядный материал (атласы, альбомы, карты, таблицы) и другие информационные источники, которые учитель планирует использовать для реализации рабочей програм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Материально-техническое обеспечение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ет перечень учебного оборудования и оборудования для лабораторных, практических работ, организации проектной и исследовательской деятельности обучающихся и т.д., которые учитель планирует использовать при реализации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Лист внесения изменений в рабочую программу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148392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атривает фиксацию возможных изменений в рабочей программе, необходимость в которых может возникнуть в течение учебного г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имеет право вносить изменения в рабочую программу только на основании приказа руководителя образовательного учреждения или при условии согласования изменений с заместителем руководителя бразовательного учреждения по учебно-воспитательной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и содержание рабочей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ограммы учебного курса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учебного курса может составляться как на основе авторской (если таковая имеется), так и самим педагог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первом случае структурные компоненты рабочей программы учебного курса совпадают со структурными компонентами рабочей программы учебного предм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лучае, когда программа разрабатывается самим педагогом и, по сути, является авторской, структурные компоненты, должны быть дополнены еще учебно-тематическим планом и содержанием учебного кур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ой запис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тематическ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ания учебного кур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ого поурочн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х образовательных результа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а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-тематически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бно-тематический план представляет собой разделение всего содержания учебного курса на дидактические единицы разделы, их нумерацию с указанием продолжительности их изучения. Он предваряет такой компонент рабочей программы как «Содержани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учебного курса представляет собой краткое содержание каждого раздела согласно нумерации в учебно-тематическом пла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брать авторскую программу и соответствующий к ней учебно-методический комплект (УМК) из Федерального перечня, рекомендованного Минобрнауки РФ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равнить цели изучения учебного предмета в выбра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рской программе для данного класса с целями, зафиксированными в примерной программе. При необходимости выполнить корректировку целей авторской программы, отразить этот факт в тексте пояснительной записки РП, обосновав причину корректиров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Сравнить требования к планируемым образовательным результатам обучающихся на конец обучения в данном классе в выбранной авторской программе с такими же требованиями, прописанными в примерной программе по учебному предме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равнить содержание образования по предмету, представленное в авторской программе для всех классов данной ступени и примерной програм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Составить тематический поурочный пл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Определить состав УМ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формить текст рабочей программы в соответствии с требова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Выполнить самоэкспертизу качества составленной рабочей программы с учетом требований «Положения о рабочей программе», критериями качества, разработанными в О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овести внешнюю экспертизу рабочей программы. Результаты рассмотрения представить в виде выписки из протокола заседания методического объедин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редставить рабочую программу к утверждению в соответствии с принятой в образовательном учреждении процедур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1187280" y="357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Основные требования к рабочей программе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483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чие программы должны быть направлены на достижение образовательных результатов. В связи с этим рабочие программы должны разрабатываться учителем на основе требований к планируемым образовательным результат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разработке рабочей программы учителю рекомендуется использовать и примерную и авторскую программы по учебному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имерны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ые программы учебных предметов для основной школы составлены на основе фундаментального ядра содержания общего образования и требований к результатам основного общего образования, представленных в ФГ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 определяет инвариантную (обязательную) часть учебного предмета, за пределами которой остается возможность авторского выбора вариативной составляющей содержания образования. Примерная программа не является нормативным докумен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Авторски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в совокупности с учебно-методическими материалами (учебниками, рабочими тетрадями, тетрадями для практических работ, сборниками заданий, контрольных работ, книгами для учителя, CD и т.д.составляет авторский УМ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наличии УМК учителю рациональнее обеспечивать достижение образовательных результатов средствами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еимущества использования авторск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ие программы конкретизируют содержание предметных тем, включенных в стандарт, определяют в рамках авторской концепции изучения предмета в каждом классе распределение учебных часов по разделам, темам, набор практических, лабораторных работ, выполняемых учащимися, опытов, демонстрируемых учителем в классе и т.д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ая программа не является нормативным документ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лизация авторских программ в каждом классе, как правило, подкреплена учебно-методическими материал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ерная программа – средство, помогающее учителю проанализировать авторскую программу с точки зрения обеспечения требований стандарта, т.е. получить ответы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ли авторская программа для данного класса в полной мере содержание, включенное в примерную програм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авторской программы является избыточным по сравнению с содержанием примерной программы? Это будет список тем, не входящих в станда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из примерной программы отсутствует в авторской? Это будет список тем из стандарта, изучение которых следует обеспечить, не смотря на то, что их нет в авторской програм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рабочей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на эти вопросы определят содержание будущей рабочей программы, а именно: будет ли она отличаться от авторской (если – да, то в какой части и почему?) или н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– нормативный документ, который иллюстрирует, как учитель планирует реализовывать авторскую программу с учетом особенностей ОУ (условий, образовательных потребностей обучающихся) и требований действующего станда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целом структура и содержание рабочей программы определяетс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ованиями ФГОС к образовательным результатам по предмет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лендарным учебным графиком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мом учебных часов на изучение предмета, курса согласно учебному плану для конкретного кла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ями и задачами, планируемыми образовательными результатами основной образовательной программы ступени общего образования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навательными интересами обучающихся конкретного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ором образовательным учреждением УМК для обеспечения реализации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7:00Z</dcterms:modified>
  <cp:revision>46</cp:revision>
  <dc:subject/>
  <dc:title>«Деление ядер урана»</dc:title>
</cp:coreProperties>
</file>